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8A7E-2834-436B-8759-DD7A650BF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FCAB-8A1D-4629-BD30-D2C2FDAC8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0D04-20AA-4016-98E5-6010EEB43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3426-E777-4939-A57F-430B1EB65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EFA20-844B-4B69-9FAE-756E9CAD6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26AEF-112A-4644-8BD6-8CF22DADB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C11FF-AEBE-4ED7-8232-63E3291F4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12BC8-D77D-4B23-A4EE-119EF2328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32E9F-C4BD-4E20-8832-470F20AF2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D2A81-1A2D-4BCC-B914-81370F590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9F204-7429-4E8C-AC94-78726551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CA56-17BF-4FF2-A7DD-48EABBDD3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AE773-CF68-4474-B858-065B2B5F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47FF0-E534-4A23-803B-A9D032E5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20AA1-6076-4CDE-8DC3-9C42807EA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FE868-8B01-462F-80BD-4AE367220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8F899-382B-401C-BD7D-155F47612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EE91-EC28-4A71-9942-F5B9C1B3C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EA10-5580-4F19-81E2-9DC9E3E35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3207-553A-4261-B8E9-CCDE98501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443C-E937-4CEE-B5B8-A93040409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9B27-89CC-4B6E-BC3D-A53D3475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062F-9CC4-464D-8DB4-7E5EA3D5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2A6D-6DAB-4C41-9DCE-41002660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CB24F-BCBD-4653-8D74-E2C0F47CA1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73f8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3f8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3371"/>
                </a:gs>
                <a:gs pos="100000">
                  <a:srgbClr val="573f8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5698"/>
                </a:gs>
                <a:gs pos="100000">
                  <a:srgbClr val="573f8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9d9ff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DD6CF-A07D-45E4-A71E-76B2A5F4AB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3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347640" y="476280"/>
            <a:ext cx="29336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9d9ff"/>
                </a:solidFill>
                <a:latin typeface="Comic Sans MS"/>
              </a:rPr>
              <a:t>Sawl marblen?</a:t>
            </a:r>
            <a:endParaRPr b="1" lang="en-US" sz="2800" spc="-1" strike="noStrike">
              <a:solidFill>
                <a:srgbClr val="d9d9ff"/>
              </a:solidFill>
              <a:latin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537120"/>
            <a:ext cx="8209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ae Manon yn rhannu 100 marblen i bump ba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ae Bag 1 a Bag 2 gyda’i gilydd yn cynnwys 52 marbl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ae Bag 2 a Bag 3 gyda’i gilydd yn cynnwys 43 marbl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ae Bag 3 a Bag 4 gyda’i gilydd yn cynnwys 34 marb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ae Bag 4 a Bag 5 gyda’i gilydd yn cynnwys 30 marbl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awl marblen sydd ymhob bag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999040" y="3789360"/>
            <a:ext cx="24717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5T18:02:17Z</dcterms:created>
  <dc:creator>Carwyn</dc:creator>
  <dc:description/>
  <dc:language>en-US</dc:language>
  <cp:lastModifiedBy>Carwyn</cp:lastModifiedBy>
  <dcterms:modified xsi:type="dcterms:W3CDTF">2008-12-05T18:14:00Z</dcterms:modified>
  <cp:revision>2</cp:revision>
  <dc:subject/>
  <dc:title>Sawl marblen?</dc:title>
</cp:coreProperties>
</file>